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5C2-017E-4375-B6A6-837879E2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942-F000-402D-9F3B-EB84E2C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A40-B1A7-4FCF-8D33-F5946975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9F1-F02F-48C2-9BE5-51E77A7B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C4E-9DDE-4CAC-85B6-17D19A3B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A3D-D3C0-4D77-AAD6-D5B08F1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415-4157-4DB6-8F13-B096C155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15A-2103-44B4-90A7-43A5CB3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540-CCB4-4ECF-954B-66AEEA4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C0E-97C6-434E-AA55-436CF25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B54-0884-4466-9D5D-3E0B69B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864-15E6-46B6-8EF1-2A0008D3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929-99E0-4F98-A078-C19B2058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IUNI GEOGRAFICE AFRICAN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 VALEA SI DELTA NILULU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 MUNTII ATLAS-MALUL MARII MEDITERA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 MUNTII RUWENZORII-LACUL VIC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A SI DELTA NIL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1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A MAR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EM V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AV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OSI C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NTII ATLAS MALUL MARII MEDITE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 2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FL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ZA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AKI IU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ION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NTII RUWENZORII-LACUL VIC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3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 SEBA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MI IBOL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EA SIL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CINI DE LUCRU CERU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chipa să –şi găsească un nume reprezenta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 identifice regiunea geograf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găsească cât mai multe elemente fizico-geografice specifice regiunii re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reprezinte regiunea geografică pe un suport folosind diverse materiale şi tehnici de lucru exprimând cel mai concret cu putinţă specificitatea locului prezen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data fixată în prealabil, echipele vor prezenta pe rând lucrările, expunând în faţa clasei detaliile muncii 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16:40Z</dcterms:created>
  <dc:creator>ws06</dc:creator>
  <dc:description/>
  <dc:language>en-US</dc:language>
  <cp:lastModifiedBy>ws06</cp:lastModifiedBy>
  <dcterms:modified xsi:type="dcterms:W3CDTF">2009-12-10T16:20:46Z</dcterms:modified>
  <cp:revision>10</cp:revision>
  <dc:subject/>
  <dc:title>Diapozitivul 1</dc:title>
</cp:coreProperties>
</file>